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1EFDCB-C66A-4870-AEFE-D8106F3B7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A50644-914A-49B8-8549-750266B5D68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B57B44-9C55-493D-B4CF-EDAF1CCB839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89A3DC-8CD8-43A9-B270-62E84D9EC99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DA946E-1D6F-4C01-9ACD-9004FD0228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C6C724-2B19-4E75-B01A-2B605BA9B64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0EEAC7-E82E-4481-B13F-F3530AE79C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503172-7EAD-4C0F-A99C-C7EADB521E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F33227-3DAF-4058-AFDA-19F68D7FA7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E87AD8-24FE-4E83-A7CC-0F2AE5C568C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D20F68-C243-40F6-9BED-B80E8FB9FFF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1A3CCE-0023-4BCB-8180-2E43737CA0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3DDDC3-5B47-4C12-82A8-BAFD01B88BD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08C2BF-E1C6-4602-9C11-51D65348613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8FA0C2-AC2D-4683-976F-E1DFB526131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F3FFB5-58F0-4990-8D9D-52450A940BE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951431-7E43-445B-A530-0BEE42DDDF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D0BD4A-9E00-4B67-8F24-D1E0B6E069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DD194D-453D-4C55-A47C-4F1BF53521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6DD753-DB45-437D-B6EB-CB0BAAE596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B5317A-1E22-4399-9EB9-47FDAC672AD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6AA3F7-A10B-482C-A38B-63D0BDC2499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05C28D-6139-458E-8E2F-62879663DF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A5500B-712F-414B-9675-F5866AF9772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706A4D-480D-453E-AFA8-2E7F1D6BED4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5F7C55-35FA-43F7-AC90-717DB27B55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0A12B6-B5DC-41A1-B17D-984BE612B1F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C95F67-B72D-492A-8B00-80BA696F23A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DF2892-6EDC-460A-A7E2-F877C55612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191D-673C-48EF-81F9-A874E28E3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B98C-203E-4527-AB35-709197C31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A86F-D69A-4792-B522-E4F675934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AD87-1B71-42E7-B3AA-CB55CF339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2D25-3767-4672-9D79-1C866FA6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C6907-D11E-4E4D-B230-4B955A3C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3E99B-C9F5-41CB-AC22-65E6C2F7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CA825-F13A-4742-98F9-DE1EDF25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D40B-1724-41E8-8D85-36BA2531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01FA2-2699-4536-AE2E-BBF062E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73E42-C753-4B02-9E1F-1D9ECFF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70D7-24E9-4BAB-AF4A-04014E270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F8C6C-B3DC-4EC1-A976-DF334FC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DFB2E-A785-4693-8004-7D547CB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41F60-11C3-454E-9358-6296FEE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900E7-4E31-48D2-A152-42FF097E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35AD0-FB34-4EB3-91E0-93A1A6E5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7F6B-B54F-45CA-A942-E798667BC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F49F-9EB7-45C4-942F-F88018762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8973-2173-40FC-AACF-BD9B5183E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81C8-FB4F-4DCF-A66C-4E53EEC53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0317-C4B8-411F-9CF8-E2AAC678C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9863-3F43-4CAA-B37F-BB80F50A0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63E7-0F2F-4960-AC12-6CEF14951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F419-67AC-497C-AA90-3D5CE42B0F2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4450-56C0-4BDC-AAA8-D264542BF418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32A3-DBDA-436E-AE75-6DB41E7181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B09A-5CA4-40C9-ADFA-A40AE2C3ED7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060640"/>
            <a:ext cx="392436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ff00"/>
                </a:solidFill>
                <a:latin typeface="Comic Sans MS"/>
              </a:rPr>
              <a:t>Тропске боле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9f913"/>
                </a:solidFill>
                <a:latin typeface="Comic Sans MS"/>
              </a:rPr>
              <a:t>Вариола</a:t>
            </a:r>
            <a:r>
              <a:rPr b="1" i="1" lang="sr-Latn-CS" sz="4800" spc="-1" strike="noStrike">
                <a:solidFill>
                  <a:srgbClr val="e9f913"/>
                </a:solidFill>
                <a:latin typeface="Comic Sans MS"/>
              </a:rPr>
              <a:t>/</a:t>
            </a:r>
            <a:r>
              <a:rPr b="1" i="1" lang="en-US" sz="4800" spc="-1" strike="noStrike">
                <a:solidFill>
                  <a:srgbClr val="e9f913"/>
                </a:solidFill>
                <a:latin typeface="Comic Sans MS"/>
              </a:rPr>
              <a:t> Variola ver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variola-fig2"/>
          <p:cNvPicPr/>
          <p:nvPr/>
        </p:nvPicPr>
        <p:blipFill>
          <a:blip r:embed="rId1"/>
          <a:stretch/>
        </p:blipFill>
        <p:spPr>
          <a:xfrm>
            <a:off x="3772080" y="692280"/>
            <a:ext cx="53719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3648-5E8B-46A0-AB2B-AE6B7AC0C0D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1197000"/>
            <a:ext cx="748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омплик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а. Вирусне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б. Бактеријс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миокардитис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пиодерм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ендокардитис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пнеумоније и бронхопнеумон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 кератитис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пнеумониј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- енцефалити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5CA2-483B-4FEE-AEF0-2FEB674A8D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87280" y="1052640"/>
            <a:ext cx="77058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ка сл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а анке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леукоцитоза са лимфомоноцитозом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олација вируса култивисањ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дентификација вируса у садржају ефлоресценција (електронска микроскопиј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реакци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RVK, RIH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980-DE4F-44A8-B235-AF2B4AF8AD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971640" y="1916280"/>
            <a:ext cx="792144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ff00"/>
                </a:solidFill>
                <a:latin typeface="Comic Sans MS"/>
              </a:rPr>
              <a:t>Тропске</a:t>
            </a: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4800" spc="-1" strike="noStrike">
                <a:solidFill>
                  <a:srgbClr val="ffff00"/>
                </a:solidFill>
                <a:latin typeface="Comic Sans MS"/>
              </a:rPr>
              <a:t>боле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e9f913"/>
                </a:solidFill>
                <a:latin typeface="Comic Sans MS"/>
              </a:rPr>
              <a:t>Вирусне хеморагијске грозниц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640E-9AE9-4280-A9FB-BCA1F16D85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332000" y="765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9f913"/>
                </a:solidFill>
                <a:latin typeface="Arial Rounded MT Bold"/>
              </a:rPr>
              <a:t>ЖУТА ГРОЗНИЦА</a:t>
            </a:r>
            <a:r>
              <a:rPr b="1" lang="en-US" sz="2400" spc="-1" strike="noStrike">
                <a:solidFill>
                  <a:srgbClr val="e9f913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e9f913"/>
                </a:solidFill>
                <a:latin typeface="Arial Rounded MT Bold"/>
              </a:rPr>
              <a:t>/</a:t>
            </a:r>
            <a:r>
              <a:rPr b="1" lang="en-US" sz="2400" spc="-1" strike="noStrike">
                <a:solidFill>
                  <a:srgbClr val="e9f913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e9f913"/>
                </a:solidFill>
                <a:latin typeface="Arial Rounded MT Bold"/>
              </a:rPr>
              <a:t>FEBRIS F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187280" y="1989000"/>
            <a:ext cx="74883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Жута грозница је акутно, карантинско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русно обољење тропски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суптропских крајева које се карактерише појавом жутице, хеморагичне дијатезе и оштећењем бубре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6492-9D6D-4253-B04D-EC9A72062E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16000" y="1268280"/>
            <a:ext cx="7416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rus žute groznice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Flavivirida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Жута грозница је распрострањена у тропским пределима Африке и Јужне Амери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е два епидемиолошка типа жуте грозниц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асични (градски) тип жуте грознице: извор инфекције је  болесник, а пренослилац комарац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Aedes aegypt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овај тип болести се јавља у градовим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рашумски тип жуте грпзнице: извор инфекције су мајмуни, а преносиоци су комарци из џунгле (овај тип болести се јавља у џунглам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7" descr="hepc_clip_image004"/>
          <p:cNvPicPr/>
          <p:nvPr/>
        </p:nvPicPr>
        <p:blipFill>
          <a:blip r:embed="rId1"/>
          <a:stretch/>
        </p:blipFill>
        <p:spPr>
          <a:xfrm>
            <a:off x="6012000" y="836640"/>
            <a:ext cx="2133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ADEA-688C-49B5-BEEE-9DAD3F5BF0F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aedes_taeniorhynchus3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76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i55551244"/>
          <p:cNvPicPr/>
          <p:nvPr/>
        </p:nvPicPr>
        <p:blipFill>
          <a:blip r:embed="rId2"/>
          <a:stretch/>
        </p:blipFill>
        <p:spPr>
          <a:xfrm>
            <a:off x="755640" y="3213000"/>
            <a:ext cx="46753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ADA1-ACE6-43C9-A958-7593F0B7FBD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1116000" y="1197000"/>
            <a:ext cx="74898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Жута грозница је генерализовано вирусно обољење у току којег долази до оштећења јетре, бубрега, срца и г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интестиналног трак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: 3 до 6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отиче у два стадијума, између којих постоји кратак афебрилни период (од неколико сати до једног да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2F9-84F4-4CDE-A8DD-266F4401B4D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042920" y="1268280"/>
            <a:ext cx="78501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 стадијум</a:t>
            </a:r>
            <a:r>
              <a:rPr b="1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пшти симптоми инфекције (висока температура, главобоља, мијалгије, малаксалост, фотофобија); болесник повраћа слуз („бело повраћање“); коњунктиве ињициране крвљу, лице зажарено; јетра и слезина умерено увећа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ај стадијум траје 3 до 4 дана, после чега температура па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I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е нови скок температуре, јавља се жутица, хеморагијски синдром (хематемеза, мелена, хематурија, епистакса, крварења у кожи) и олигурија са азотемиј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ести су знаци тоскичног енцефалитиса (делиријум и ком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ник обично умире око 10 дана бол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5D85-1B2F-4B7F-9F9F-BB079093EAC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116000" y="1197000"/>
            <a:ext cx="763272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вна слика (леукоцитоза са неутрофилијом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олација вируса из крви (у прва 4 дан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реакције (RVK, RIH; ELISA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CAB-1F62-432D-9099-8FA6828D962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042920" y="1341360"/>
            <a:ext cx="7704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мптоматс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фила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Заштита од убода комара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ништавање комара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акцинација особа које долазе у заражена п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ја (жива вакци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случајевима са жутицом смртност износи 50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B4C6-9248-42FD-824F-4405036F741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499400" y="691200"/>
            <a:ext cx="42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ВАРИОЛА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VARIOLA V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58920" y="2060640"/>
            <a:ext cx="7561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ариола је акутно инфективно обољење из групе осипних грозница, које се клинички карактерише тешким општим стањем и везикуло-пустулозном оспом која оставља ожиљ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D20C-8785-462C-99BB-9117D0EC4FB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917360" y="71964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ДЕНГА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DEN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87280" y="2205000"/>
            <a:ext cx="7488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енга је вирусно, трансмисивно, генерализивано обољење тропских земаља, које преносе комарци, а карактерише се високом температуром, мијалгијама и осп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DDC0-7008-4EA9-9271-63182F75BA1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971640" y="1197000"/>
            <a:ext cx="79930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rus denge (постоје 4 антигена тип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јавља у великим епидемијама у Индији, Југоисточној Азији, Западној и Супсахарској Африци, Средњој и Јужној Америци, као и деловима Аустрал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ник, док у џунглама то могу бити и мајмун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реноси комарац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Aedes Aegypt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заразан је до краја живо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F95B-F2B0-4A3B-A7AB-844C8E8FB4E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971640" y="1268280"/>
            <a:ext cx="7993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 месту убода комарца јавља се едем и еритем пречника 10-4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m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д денга хеморагијске грознице постоји повећана васкуларна пропустљивост, крварења и могућност настанка дисеминоване интраваскуларне коагулопат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E25E-8BB3-4857-B8E2-30C491EFF64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87280" y="1052640"/>
            <a:ext cx="7777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: 5 до 8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нагло са високом температуром до 41 °</a:t>
            </a: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, дрхтавицом, јаком главобољом, боловима очних мишича и боловима у крстима („dandi fever“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: високо фебрилан, интоксикован, коњунктиве ињициране, лице зажарено, хеморагијске манифестације (петехије, пурпура, епистакса, крварење из дигестивног тракта и сл.); чест је скарлатиниформни егзантем по читавом телу после кога се јавља морбилифорнма осп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DEA-47FB-436E-BC12-08D05EA3A1A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258920" y="1268280"/>
            <a:ext cx="74898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вна слика (у почетку лака неутрофилија, касније леукопенија са лимфоцитоз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38D2-03D5-4AAB-AB20-8906B214424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33320" y="90792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LASSA-</a:t>
            </a:r>
            <a:r>
              <a:rPr b="1" lang="sr-CS" sz="2400" spc="-1" strike="noStrike">
                <a:solidFill>
                  <a:srgbClr val="ffff00"/>
                </a:solidFill>
                <a:latin typeface="Arial Rounded MT Bold"/>
              </a:rPr>
              <a:t>грозница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 Rounded MT Bold"/>
              </a:rPr>
              <a:t>LASSA Fe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16000" y="2133720"/>
            <a:ext cx="7559640" cy="17391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ефини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Lassa-грозница је акутно, вирусно обољење из групе хеморагијских грозница, које се јавља ендемично у Нигерији, Либерији и Сијера Лео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8396-53CC-4B2C-A96A-A0C770155F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00000" y="189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rus Lassa-groznice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Arenavirida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00000" y="1268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Lassa-грозница је ендемска болест у земљама западне Африке (Нигерија, Гвинеја, Либерија, Сијера Леон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Lassa%20Profile%20Map"/>
          <p:cNvPicPr/>
          <p:nvPr/>
        </p:nvPicPr>
        <p:blipFill>
          <a:blip r:embed="rId1"/>
          <a:stretch/>
        </p:blipFill>
        <p:spPr>
          <a:xfrm>
            <a:off x="5292720" y="2793960"/>
            <a:ext cx="3851280" cy="2600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900000" y="2492280"/>
            <a:ext cx="43927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езервоар вируса и извор инфекције су глодари из рода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astomy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(излучују вирус својим секретима и екскретим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1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овек може да се инфицира инхалацијом инфицираног аеросола, ингестијом контаминиране хране или конзумирањем самих глодара; могућ је и интерхумани прено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042920" y="5373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рус оштећује ендотел (повећана васкуларна пропустљиовост) и тромбоцитопен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240-EAB0-427E-B6A0-FC15B07260D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00000" y="260280"/>
            <a:ext cx="74898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 : 7 до 10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почиње постепено са општим симптомима инфекције (температура, главобоља, мијалгије, малаксалост); касније се јављају гушобоља са дисфагијом,  оток лица и врата, бол у грудном кошу, кашаљ, дијаре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тежим случајевима у другој недељи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вља се хеморагијски синдром са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шоком 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ремећајем све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3" descr="Lassa%20Profile%20Pic4"/>
          <p:cNvPicPr/>
          <p:nvPr/>
        </p:nvPicPr>
        <p:blipFill>
          <a:blip r:embed="rId1"/>
          <a:stretch/>
        </p:blipFill>
        <p:spPr>
          <a:xfrm>
            <a:off x="6084720" y="2276640"/>
            <a:ext cx="2749680" cy="4203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900000" y="386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ро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мртност се креће од 5-15 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2BBB-174C-469D-BF6B-A36A6F8CA21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116000" y="404640"/>
            <a:ext cx="74898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рвна слика (у почетку леукопенија, касније леукоцитоза, тромбоцитопениј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шка дијагн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олација вируса (на култури ћелиј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ролошке реакције (ELISA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оказивање вирусног генома (PC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Терап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имптоматс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ibavirin (до 7 дана боле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671-EA4F-4D7D-B1E6-4DA8D3565B1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110760" y="2732040"/>
            <a:ext cx="37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00"/>
                </a:solidFill>
                <a:latin typeface="Comic Sans MS"/>
              </a:rPr>
              <a:t>Хвала на па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BD48-A503-448F-8CF0-546E175BA95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em_poxvi_2"/>
          <p:cNvPicPr/>
          <p:nvPr/>
        </p:nvPicPr>
        <p:blipFill>
          <a:blip r:embed="rId1"/>
          <a:stretch/>
        </p:blipFill>
        <p:spPr>
          <a:xfrm>
            <a:off x="5867280" y="364500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971640" y="1341360"/>
            <a:ext cx="7921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т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rus variole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oxvirida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стоје две варијанте вируса: вирус мајор и вирус минор (не 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з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ују се морфолошки нити серолошк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Вирус је отпоран у спољној средни (због тога је могућ индиректни пут ширењ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11760" y="55897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99"/>
                </a:solidFill>
                <a:latin typeface="Tahoma"/>
              </a:rPr>
              <a:t>Poxvirid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Poxviridae_virion"/>
          <p:cNvPicPr/>
          <p:nvPr/>
        </p:nvPicPr>
        <p:blipFill>
          <a:blip r:embed="rId2"/>
          <a:stretch/>
        </p:blipFill>
        <p:spPr>
          <a:xfrm>
            <a:off x="2195640" y="3860640"/>
            <a:ext cx="35575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5A75-41FB-45D7-9123-F6E6C3A9FC0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187280" y="1197000"/>
            <a:ext cx="748836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Епидемиолог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о ендемска болест била је распрострањена у неким земљама Азије, Америке и у Африци (данас се сматра ерадикованом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звор инфекције је болестан човек (од првог дана болести па све док не отпадну 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т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се шири капљичним путем, ређе индиректним контактом (преко предме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Патогене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лузница респираторног тракта → примарна виремија → RES → секундарна виремија → циљни орга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E27-99AE-4C32-94F7-CE42A5F2D73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16000" y="1197000"/>
            <a:ext cx="76327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Клиничка сл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кубација: 7-17 (12-14)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 Инвазив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пшти симптоми инфекције (повишена температура, главобоља, болови у крстима, малаксалост); помућење свести са делиријумом (токсични енцефалитис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ред крај стадијума може се појавити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„раш“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скарлатиниформни или морбилиформни) и углавном је локализован на доњем делу трбуха и унутрашњим с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ма бут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тадијум траје 2 до 3 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ADE6-FB9C-4C32-95E0-907189C1BB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04292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I Осип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па пролази кроз стадијуме: макуле, папуле, везикуле, пустуле и крус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variolaaa"/>
          <p:cNvPicPr/>
          <p:nvPr/>
        </p:nvPicPr>
        <p:blipFill>
          <a:blip r:embed="rId1"/>
          <a:stretch/>
        </p:blipFill>
        <p:spPr>
          <a:xfrm>
            <a:off x="1332000" y="1989000"/>
            <a:ext cx="71276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B99C-A50F-4C3E-A023-E51E9448B3D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42920" y="981000"/>
            <a:ext cx="78501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спа се најпре јавља на лицу, а затим се спушта на на труп и екстемит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најизраженија ј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ицу, шакама и стопалима - центрифугални распоред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Smallpox_(variola_orthopox_virus_)_Early_Rash_vs_chickenpox"/>
          <p:cNvPicPr/>
          <p:nvPr/>
        </p:nvPicPr>
        <p:blipFill>
          <a:blip r:embed="rId1"/>
          <a:stretch/>
        </p:blipFill>
        <p:spPr>
          <a:xfrm>
            <a:off x="5219640" y="1916280"/>
            <a:ext cx="3711600" cy="439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1042920" y="2205000"/>
            <a:ext cx="4033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3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а појавом оспе долази до пада температуре, међутим у фази пустулизације долази до поновног скока температуре и погоршања општег стања болес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EF40-2B3F-4061-9C39-211679FA642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smallpox-lesions"/>
          <p:cNvPicPr/>
          <p:nvPr/>
        </p:nvPicPr>
        <p:blipFill>
          <a:blip r:embed="rId1"/>
          <a:stretch/>
        </p:blipFill>
        <p:spPr>
          <a:xfrm>
            <a:off x="1042920" y="333360"/>
            <a:ext cx="3600360" cy="2878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variola-fig2"/>
          <p:cNvPicPr/>
          <p:nvPr/>
        </p:nvPicPr>
        <p:blipFill>
          <a:blip r:embed="rId2"/>
          <a:stretch/>
        </p:blipFill>
        <p:spPr>
          <a:xfrm>
            <a:off x="3419640" y="2781360"/>
            <a:ext cx="5371920" cy="3686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8120" y="4797360"/>
            <a:ext cx="20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Пустуло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ос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код варио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B18-BD0E-41AF-B654-38FCE913778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1042920" y="1125360"/>
            <a:ext cx="76327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III Реконвалесцентни стадију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и ток вариоле траје 4 до 6 недељ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кон отпадања круста настаје реконвалесцентни стадијум који ј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ду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Облици варио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ични обл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морагични облик (purpura variolosa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вршински обл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г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офикова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блик (Вариолоид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riola sine exanthemate s. erupcion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50:03Z</dcterms:modified>
  <cp:revision>93</cp:revision>
  <dc:subject/>
  <dc:title>Slide 1</dc:title>
</cp:coreProperties>
</file>